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cashreg.wav" ContentType="audio/x-wav"/>
  <Override PartName="/ppt/media/image3.wmf" ContentType="image/x-wmf"/>
  <Override PartName="/ppt/media/image4.wmf" ContentType="image/x-wmf"/>
  <Override PartName="/ppt/media/image5.jpeg" ContentType="image/jpeg"/>
  <Override PartName="/ppt/media/image6.jpeg" ContentType="image/jpeg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244D-A487-4CEE-A0ED-DC955E66E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EED6-1337-476B-9E4C-A0DBFDC8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C958-3EAB-4128-82F2-B31A75B18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4C5D-94C5-4BFD-983F-756D86ACC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1E2FC-ACEF-4BAD-882D-BDF2F80AE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3133B-6694-48D1-88FC-D99DAA35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9C96C-80F7-4AE7-B87B-D48136CD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E3903-670C-4BDF-BAED-DE41CDCC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85771-D154-46CB-B965-71B20214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F23DD-AD8E-432B-A794-110950B3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C9B24-42C5-4948-8380-22E6CE1D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7BBF-A749-4A2B-817D-C4E3A550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62172-1F7D-4126-A430-0B169E2D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5F441-3EFF-4138-B350-8AD9CB31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9ADB8-7916-424D-AD9E-0F7C25EC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7EE45-A874-486B-BDD1-1F82A710E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39B4D-9919-43BE-B908-789DAFD51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5E3A-8C1C-41D4-9E05-666297D2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E972-B592-4F84-8125-76BEB1D4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C3CC-9DFA-4F3B-B669-2A640763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AB05-CD0A-488A-8CE9-378A0E20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3307-544A-443E-AE9B-0900E33E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872F-8676-4548-9AEB-85D35CE6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8BF3-54E9-4CF6-B7EF-E7F7A203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9BD0-31D9-4B5A-BDD6-72FA84848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986E-5952-4AEE-B98F-2CD8886F7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" Target="slide17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5.xml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6.xml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4.xml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Witam Cię na lekcji dotyczącej obliczeń procentowych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0920" y="2565360"/>
            <a:ext cx="77058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elem lekcji jes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zypomnienie wiadomości, które poznałeś na poprzednich zajęciach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znanie nowych pojęć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astosowanie tych wiadomości do rozwiązywania zadań z treści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newsflash/>
    <p:sndAc>
      <p:stSnd>
        <p:snd r:embed="rId2" name="cashre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I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Próba złota i srebr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785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 przedmiotach wykonanych z metali szlachetnych, np. ze złota lub srebra, wyciska się cechy probiercze, tak zwane próby. Na próbie jest liczba, która oznacza, ile jest promili złota lub srebra w danym wyrobie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newsflash/>
    <p:sndAc>
      <p:stSnd>
        <p:snd r:embed="rId2" name="cashreg.wav"/>
      </p:stSnd>
    </p:sndAc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457200" y="1268280"/>
          <a:ext cx="8229600" cy="4237200"/>
        </p:xfrm>
        <a:graphic>
          <a:graphicData uri="http://schemas.openxmlformats.org/drawingml/2006/table">
            <a:tbl>
              <a:tblPr/>
              <a:tblGrid>
                <a:gridCol w="3898800"/>
                <a:gridCol w="2165400"/>
                <a:gridCol w="2165400"/>
              </a:tblGrid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łot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rebr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óba pierwsza (1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96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92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óba druga (2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7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7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óba trzecia (3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8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óba czwarta (4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óba piąta (5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7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---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newsflash/>
    <p:sndAc>
      <p:stSnd>
        <p:snd r:embed="rId2" name="cashreg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1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00046E-006 C -0.0059 0.03005 -0.01181 0.0601 -0.03993 0.05918 C -0.06806 0.05825 -0.15694 0.03236 -0.16875 -0.00601 C -0.18056 -0.04438 -0.14809 -0.14309 -0.11111 -0.17175 C -0.07413 -0.20042 0.01719 -0.20527 0.05347 -0.17753 C 0.08976 -0.14979 0.1191 -0.06773 0.10677 -0.00601 C 0.09444 0.05571 0.03073 0.16574 -0.01997 0.19232 C -0.07066 0.21891 -0.1592 0.20111 -0.19774 0.15372 C -0.23629 0.10633 -0.2684 -0.03005 -0.25104 -0.09177 C -0.23368 -0.15349 -0.14392 -0.21128 -0.09323 -0.21614 C -0.04254 -0.22099 0.01233 -0.17222 0.05347 -0.12136 C 0.09462 -0.07051 0.10937 -0.00831999999999999 0.15347 0.08876 C 0.19757 0.18585 0.26007 0.32986 0.31788 0.46139 C 0.37569 0.59292 0.43785 0.73578 0.5 0.87864 E">
                                      <p:cBhvr>
                                        <p:cTn id="36" dur="3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72835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óbę stopu wyraża się w promilach, ponieważ np. liczba 0,585 oznacza, że na 1000 jednostek stopu przypadają 585 części czystego złota i 415 części innego metalu, np. miedz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róbuj rozwiązać dwa zadania, a jeżeli nie chcesz teraz liczyć, to klikni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443640" y="333360"/>
          <a:ext cx="1428840" cy="176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43640" y="333360"/>
                    <a:ext cx="1428840" cy="17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5435640" y="4941720"/>
            <a:ext cx="1079640" cy="503280"/>
          </a:xfrm>
          <a:custGeom>
            <a:avLst/>
            <a:gdLst>
              <a:gd name="textAreaLeft" fmla="*/ 32400 w 1079640"/>
              <a:gd name="textAreaRight" fmla="*/ 1047240 w 1079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19" h="21600">
                <a:moveTo>
                  <a:pt x="0" y="0"/>
                </a:moveTo>
                <a:lnTo>
                  <a:pt x="46319" y="0"/>
                </a:lnTo>
                <a:lnTo>
                  <a:pt x="46319" y="21600"/>
                </a:lnTo>
                <a:lnTo>
                  <a:pt x="0" y="21600"/>
                </a:lnTo>
                <a:close/>
              </a:path>
              <a:path fill="lightenLess" w="46319" h="21600">
                <a:moveTo>
                  <a:pt x="0" y="0"/>
                </a:moveTo>
                <a:lnTo>
                  <a:pt x="46319" y="0"/>
                </a:lnTo>
                <a:lnTo>
                  <a:pt x="44919" y="1400"/>
                </a:lnTo>
                <a:lnTo>
                  <a:pt x="1400" y="1400"/>
                </a:lnTo>
                <a:close/>
              </a:path>
              <a:path fill="darken" w="46319" h="21600">
                <a:moveTo>
                  <a:pt x="46319" y="0"/>
                </a:moveTo>
                <a:lnTo>
                  <a:pt x="46319" y="21600"/>
                </a:lnTo>
                <a:lnTo>
                  <a:pt x="44919" y="20200"/>
                </a:lnTo>
                <a:lnTo>
                  <a:pt x="44919" y="1400"/>
                </a:lnTo>
                <a:close/>
              </a:path>
              <a:path fill="darkenLess" w="46319" h="21600">
                <a:moveTo>
                  <a:pt x="463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19" y="20200"/>
                </a:lnTo>
                <a:close/>
              </a:path>
              <a:path fill="lighten" w="463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19" h="21600">
                <a:moveTo>
                  <a:pt x="16153" y="3794"/>
                </a:moveTo>
                <a:lnTo>
                  <a:pt x="30166" y="10800"/>
                </a:lnTo>
                <a:lnTo>
                  <a:pt x="1615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  <p:sndAc>
      <p:stSnd>
        <p:snd r:embed="rId5" name="cashreg.wav"/>
      </p:stSnd>
    </p:sndAc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1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Zadanie do rozwiązani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905120"/>
            <a:ext cx="792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n Kowalski wpłacił kwotę 2000zł na okres 9 miesięcy do banku, w którym oprocentowanie wynosi 7% rocznie. Oblicz odsetki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awdź rozwiązan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4932360" y="5300640"/>
            <a:ext cx="1079640" cy="649440"/>
          </a:xfrm>
          <a:custGeom>
            <a:avLst/>
            <a:gdLst>
              <a:gd name="textAreaLeft" fmla="*/ 41760 w 1079640"/>
              <a:gd name="textAreaRight" fmla="*/ 1037880 w 107964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35900" h="21600">
                <a:moveTo>
                  <a:pt x="0" y="0"/>
                </a:moveTo>
                <a:lnTo>
                  <a:pt x="35900" y="0"/>
                </a:lnTo>
                <a:lnTo>
                  <a:pt x="35900" y="21600"/>
                </a:lnTo>
                <a:lnTo>
                  <a:pt x="0" y="21600"/>
                </a:lnTo>
                <a:close/>
              </a:path>
              <a:path fill="lightenLess" w="35900" h="21600">
                <a:moveTo>
                  <a:pt x="0" y="0"/>
                </a:moveTo>
                <a:lnTo>
                  <a:pt x="35900" y="0"/>
                </a:lnTo>
                <a:lnTo>
                  <a:pt x="34500" y="1400"/>
                </a:lnTo>
                <a:lnTo>
                  <a:pt x="1400" y="1400"/>
                </a:lnTo>
                <a:close/>
              </a:path>
              <a:path fill="darken" w="35900" h="21600">
                <a:moveTo>
                  <a:pt x="35900" y="0"/>
                </a:moveTo>
                <a:lnTo>
                  <a:pt x="35900" y="21600"/>
                </a:lnTo>
                <a:lnTo>
                  <a:pt x="34500" y="20200"/>
                </a:lnTo>
                <a:lnTo>
                  <a:pt x="34500" y="1400"/>
                </a:lnTo>
                <a:close/>
              </a:path>
              <a:path fill="darkenLess" w="35900" h="21600">
                <a:moveTo>
                  <a:pt x="3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00" y="20200"/>
                </a:lnTo>
                <a:close/>
              </a:path>
              <a:path fill="lighten" w="3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00" h="21600">
                <a:moveTo>
                  <a:pt x="1795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35900" h="21600">
                <a:moveTo>
                  <a:pt x="1795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35900" h="21600">
                <a:moveTo>
                  <a:pt x="15374" y="8224"/>
                </a:moveTo>
                <a:lnTo>
                  <a:pt x="19238" y="8224"/>
                </a:lnTo>
                <a:lnTo>
                  <a:pt x="19238" y="15221"/>
                </a:lnTo>
                <a:lnTo>
                  <a:pt x="20526" y="15221"/>
                </a:lnTo>
                <a:lnTo>
                  <a:pt x="20526" y="16144"/>
                </a:lnTo>
                <a:lnTo>
                  <a:pt x="15374" y="16144"/>
                </a:lnTo>
                <a:lnTo>
                  <a:pt x="15374" y="15221"/>
                </a:lnTo>
                <a:lnTo>
                  <a:pt x="16662" y="15221"/>
                </a:lnTo>
                <a:lnTo>
                  <a:pt x="16662" y="9129"/>
                </a:lnTo>
                <a:lnTo>
                  <a:pt x="15374" y="912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  <p:sndAc>
      <p:stSnd>
        <p:snd r:embed="rId3" name="cashreg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I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Zadanie do rozwiązani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Jaka jest próba złotej obrączki, która waży 6,4 g i zawiera 4,8 g czystego złota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awdź rozwiązani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4932360" y="5300640"/>
            <a:ext cx="1079640" cy="647640"/>
          </a:xfrm>
          <a:custGeom>
            <a:avLst/>
            <a:gdLst>
              <a:gd name="textAreaLeft" fmla="*/ 41760 w 1079640"/>
              <a:gd name="textAreaRight" fmla="*/ 1037880 w 1079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0" h="21600">
                <a:moveTo>
                  <a:pt x="180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36000" h="21600">
                <a:moveTo>
                  <a:pt x="180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36000" h="21600">
                <a:moveTo>
                  <a:pt x="15424" y="8224"/>
                </a:moveTo>
                <a:lnTo>
                  <a:pt x="19288" y="8224"/>
                </a:lnTo>
                <a:lnTo>
                  <a:pt x="19288" y="15221"/>
                </a:lnTo>
                <a:lnTo>
                  <a:pt x="20576" y="15221"/>
                </a:lnTo>
                <a:lnTo>
                  <a:pt x="20576" y="16144"/>
                </a:lnTo>
                <a:lnTo>
                  <a:pt x="15424" y="16144"/>
                </a:lnTo>
                <a:lnTo>
                  <a:pt x="15424" y="15221"/>
                </a:lnTo>
                <a:lnTo>
                  <a:pt x="16712" y="15221"/>
                </a:lnTo>
                <a:lnTo>
                  <a:pt x="16712" y="9129"/>
                </a:lnTo>
                <a:lnTo>
                  <a:pt x="15424" y="912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  <p:sndAc>
      <p:stSnd>
        <p:snd r:embed="rId3" name="cashreg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ozwiązanie zadania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d = (k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·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·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t):100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k = 2000zł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p = 7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t = 0,75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d = (2000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·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·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0,75):100 = 10500:100 = 1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Odp: Odsetki wyniosą 105z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900000" y="5516640"/>
            <a:ext cx="1008000" cy="50328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3246" h="21600">
                <a:moveTo>
                  <a:pt x="0" y="0"/>
                </a:moveTo>
                <a:lnTo>
                  <a:pt x="43246" y="0"/>
                </a:lnTo>
                <a:lnTo>
                  <a:pt x="43246" y="21600"/>
                </a:lnTo>
                <a:lnTo>
                  <a:pt x="0" y="21600"/>
                </a:lnTo>
                <a:close/>
              </a:path>
              <a:path fill="lightenLess" w="43246" h="21600">
                <a:moveTo>
                  <a:pt x="0" y="0"/>
                </a:moveTo>
                <a:lnTo>
                  <a:pt x="43246" y="0"/>
                </a:lnTo>
                <a:lnTo>
                  <a:pt x="41846" y="1400"/>
                </a:lnTo>
                <a:lnTo>
                  <a:pt x="1400" y="1400"/>
                </a:lnTo>
                <a:close/>
              </a:path>
              <a:path fill="darken" w="43246" h="21600">
                <a:moveTo>
                  <a:pt x="43246" y="0"/>
                </a:moveTo>
                <a:lnTo>
                  <a:pt x="43246" y="21600"/>
                </a:lnTo>
                <a:lnTo>
                  <a:pt x="41846" y="20200"/>
                </a:lnTo>
                <a:lnTo>
                  <a:pt x="41846" y="1400"/>
                </a:lnTo>
                <a:close/>
              </a:path>
              <a:path fill="darkenLess" w="43246" h="21600">
                <a:moveTo>
                  <a:pt x="43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46" y="20200"/>
                </a:lnTo>
                <a:close/>
              </a:path>
              <a:path fill="lighten" w="43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46" h="21600">
                <a:moveTo>
                  <a:pt x="14617" y="10800"/>
                </a:moveTo>
                <a:lnTo>
                  <a:pt x="28630" y="3794"/>
                </a:lnTo>
                <a:lnTo>
                  <a:pt x="2863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  <p:sndAc>
      <p:stSnd>
        <p:snd r:embed="rId3" name="cashreg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ozwiązanie zadania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Waga obrączki – 6,4 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Waga czystego złota – 4,8 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4,8:6,4 = 0,75 = 0,75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Odp: Próba obrączki jest równa 0,750. Jest to próba drug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newsflash/>
    <p:sndAc>
      <p:stSnd>
        <p:snd r:embed="rId2" name="cashreg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echy dla wyrobów ze złot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971640" y="2781360"/>
            <a:ext cx="7416720" cy="459720"/>
            <a:chOff x="971640" y="2781360"/>
            <a:chExt cx="7416720" cy="459720"/>
          </a:xfrm>
        </p:grpSpPr>
        <p:sp>
          <p:nvSpPr>
            <p:cNvPr id="129" name=""/>
            <p:cNvSpPr/>
            <p:nvPr/>
          </p:nvSpPr>
          <p:spPr>
            <a:xfrm>
              <a:off x="971640" y="278136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óba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411640" y="278136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óba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67280" y="278136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óba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80000" y="2781360"/>
              <a:ext cx="13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óba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20000" y="278136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óba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900000" y="3716280"/>
            <a:ext cx="7417080" cy="1076400"/>
            <a:chOff x="900000" y="3716280"/>
            <a:chExt cx="7417080" cy="1076400"/>
          </a:xfrm>
        </p:grpSpPr>
        <p:pic>
          <p:nvPicPr>
            <p:cNvPr id="135" name="" descr=""/>
            <p:cNvPicPr/>
            <p:nvPr/>
          </p:nvPicPr>
          <p:blipFill>
            <a:blip r:embed="rId2">
              <a:grayscl/>
            </a:blip>
            <a:srcRect l="0" t="0" r="699" b="19302"/>
            <a:stretch/>
          </p:blipFill>
          <p:spPr>
            <a:xfrm>
              <a:off x="900000" y="3716280"/>
              <a:ext cx="7417080" cy="10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8317080" y="386064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317080" y="3860640"/>
              <a:ext cx="0" cy="720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newsflash/>
    <p:sndAc>
      <p:stSnd>
        <p:snd r:embed="rId3" name="cashreg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echy dla wyrobów ze srebr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55640" y="2637000"/>
            <a:ext cx="7985160" cy="520560"/>
            <a:chOff x="755640" y="2637000"/>
            <a:chExt cx="7985160" cy="520560"/>
          </a:xfrm>
        </p:grpSpPr>
        <p:sp>
          <p:nvSpPr>
            <p:cNvPr id="140" name=""/>
            <p:cNvSpPr/>
            <p:nvPr/>
          </p:nvSpPr>
          <p:spPr>
            <a:xfrm>
              <a:off x="755640" y="2637000"/>
              <a:ext cx="186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óba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916360" y="2637000"/>
              <a:ext cx="186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óba 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59280" y="2637000"/>
              <a:ext cx="186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óba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77080" y="2637000"/>
              <a:ext cx="186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óba 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11280" y="3860640"/>
            <a:ext cx="7848360" cy="1130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cashreg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edziby urzędów probierczych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oddziałów tych urzędów określają litery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2349360"/>
            <a:ext cx="7715160" cy="36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 – Gdańsk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 – Kraków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Ł – Łód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 – Poznań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 – Warszaw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 – Wrocław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Z - Częstochow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364000" y="4508640"/>
            <a:ext cx="2009880" cy="14173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cashreg.wav"/>
      </p:stSnd>
    </p:sndAc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Zanim rozpoczniesz prezentację przeczytaj uważnie!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achowaj podaną kolejnoś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zełącz się do ankiety – przycisk nr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dtwórz prezentację, aby poznać nowe wiadomości – przycisk nr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zełącz się do testu – przycisk nr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nktacja i oceny z testu – przycisk nr 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r 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nr 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r 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r 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5589720"/>
            <a:ext cx="1079280" cy="431640"/>
          </a:xfrm>
          <a:custGeom>
            <a:avLst/>
            <a:gdLst>
              <a:gd name="textAreaLeft" fmla="*/ 27720 w 1079280"/>
              <a:gd name="textAreaRight" fmla="*/ 1051560 w 107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3982" h="21600">
                <a:moveTo>
                  <a:pt x="0" y="0"/>
                </a:moveTo>
                <a:lnTo>
                  <a:pt x="53982" y="0"/>
                </a:lnTo>
                <a:lnTo>
                  <a:pt x="53982" y="21600"/>
                </a:lnTo>
                <a:lnTo>
                  <a:pt x="0" y="21600"/>
                </a:lnTo>
                <a:close/>
              </a:path>
              <a:path fill="lightenLess" w="53982" h="21600">
                <a:moveTo>
                  <a:pt x="0" y="0"/>
                </a:moveTo>
                <a:lnTo>
                  <a:pt x="53982" y="0"/>
                </a:lnTo>
                <a:lnTo>
                  <a:pt x="52582" y="1400"/>
                </a:lnTo>
                <a:lnTo>
                  <a:pt x="1400" y="1400"/>
                </a:lnTo>
                <a:close/>
              </a:path>
              <a:path fill="darken" w="53982" h="21600">
                <a:moveTo>
                  <a:pt x="53982" y="0"/>
                </a:moveTo>
                <a:lnTo>
                  <a:pt x="53982" y="21600"/>
                </a:lnTo>
                <a:lnTo>
                  <a:pt x="52582" y="20200"/>
                </a:lnTo>
                <a:lnTo>
                  <a:pt x="52582" y="1400"/>
                </a:lnTo>
                <a:close/>
              </a:path>
              <a:path fill="darkenLess" w="53982" h="21600">
                <a:moveTo>
                  <a:pt x="53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2" y="20200"/>
                </a:lnTo>
                <a:close/>
              </a:path>
              <a:path fill="lighten" w="53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82" h="21600">
                <a:moveTo>
                  <a:pt x="19985" y="3794"/>
                </a:moveTo>
                <a:lnTo>
                  <a:pt x="33997" y="10800"/>
                </a:lnTo>
                <a:lnTo>
                  <a:pt x="19985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2987640" y="5589720"/>
            <a:ext cx="1079640" cy="431640"/>
          </a:xfrm>
          <a:custGeom>
            <a:avLst/>
            <a:gdLst>
              <a:gd name="textAreaLeft" fmla="*/ 27720 w 1079640"/>
              <a:gd name="textAreaRight" fmla="*/ 1051920 w 1079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4000" h="21600">
                <a:moveTo>
                  <a:pt x="0" y="0"/>
                </a:moveTo>
                <a:lnTo>
                  <a:pt x="54000" y="0"/>
                </a:lnTo>
                <a:lnTo>
                  <a:pt x="54000" y="21600"/>
                </a:lnTo>
                <a:lnTo>
                  <a:pt x="0" y="21600"/>
                </a:lnTo>
                <a:close/>
              </a:path>
              <a:path fill="lightenLess" w="54000" h="21600">
                <a:moveTo>
                  <a:pt x="0" y="0"/>
                </a:moveTo>
                <a:lnTo>
                  <a:pt x="54000" y="0"/>
                </a:lnTo>
                <a:lnTo>
                  <a:pt x="52600" y="1400"/>
                </a:lnTo>
                <a:lnTo>
                  <a:pt x="1400" y="1400"/>
                </a:lnTo>
                <a:close/>
              </a:path>
              <a:path fill="darken" w="54000" h="21600">
                <a:moveTo>
                  <a:pt x="54000" y="0"/>
                </a:moveTo>
                <a:lnTo>
                  <a:pt x="54000" y="21600"/>
                </a:lnTo>
                <a:lnTo>
                  <a:pt x="52600" y="20200"/>
                </a:lnTo>
                <a:lnTo>
                  <a:pt x="52600" y="1400"/>
                </a:lnTo>
                <a:close/>
              </a:path>
              <a:path fill="darkenLess" w="54000" h="21600">
                <a:moveTo>
                  <a:pt x="54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00" y="20200"/>
                </a:lnTo>
                <a:close/>
              </a:path>
              <a:path fill="lighten" w="54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00" h="21600">
                <a:moveTo>
                  <a:pt x="19994" y="3794"/>
                </a:moveTo>
                <a:lnTo>
                  <a:pt x="34006" y="10800"/>
                </a:lnTo>
                <a:lnTo>
                  <a:pt x="199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32360" y="5589720"/>
            <a:ext cx="1079640" cy="431640"/>
          </a:xfrm>
          <a:custGeom>
            <a:avLst/>
            <a:gdLst>
              <a:gd name="textAreaLeft" fmla="*/ 27720 w 1079640"/>
              <a:gd name="textAreaRight" fmla="*/ 1051920 w 1079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4000" h="21600">
                <a:moveTo>
                  <a:pt x="0" y="0"/>
                </a:moveTo>
                <a:lnTo>
                  <a:pt x="54000" y="0"/>
                </a:lnTo>
                <a:lnTo>
                  <a:pt x="54000" y="21600"/>
                </a:lnTo>
                <a:lnTo>
                  <a:pt x="0" y="21600"/>
                </a:lnTo>
                <a:close/>
              </a:path>
              <a:path fill="lightenLess" w="54000" h="21600">
                <a:moveTo>
                  <a:pt x="0" y="0"/>
                </a:moveTo>
                <a:lnTo>
                  <a:pt x="54000" y="0"/>
                </a:lnTo>
                <a:lnTo>
                  <a:pt x="52600" y="1400"/>
                </a:lnTo>
                <a:lnTo>
                  <a:pt x="1400" y="1400"/>
                </a:lnTo>
                <a:close/>
              </a:path>
              <a:path fill="darken" w="54000" h="21600">
                <a:moveTo>
                  <a:pt x="54000" y="0"/>
                </a:moveTo>
                <a:lnTo>
                  <a:pt x="54000" y="21600"/>
                </a:lnTo>
                <a:lnTo>
                  <a:pt x="52600" y="20200"/>
                </a:lnTo>
                <a:lnTo>
                  <a:pt x="52600" y="1400"/>
                </a:lnTo>
                <a:close/>
              </a:path>
              <a:path fill="darkenLess" w="54000" h="21600">
                <a:moveTo>
                  <a:pt x="54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00" y="20200"/>
                </a:lnTo>
                <a:close/>
              </a:path>
              <a:path fill="lighten" w="54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00" h="21600">
                <a:moveTo>
                  <a:pt x="19994" y="3794"/>
                </a:moveTo>
                <a:lnTo>
                  <a:pt x="34006" y="10800"/>
                </a:lnTo>
                <a:lnTo>
                  <a:pt x="199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87280" y="5445000"/>
            <a:ext cx="655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6804000" y="5589720"/>
            <a:ext cx="1008000" cy="433080"/>
          </a:xfrm>
          <a:custGeom>
            <a:avLst/>
            <a:gdLst>
              <a:gd name="textAreaLeft" fmla="*/ 28080 w 1008000"/>
              <a:gd name="textAreaRight" fmla="*/ 979920 w 100800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50250" h="21600">
                <a:moveTo>
                  <a:pt x="0" y="0"/>
                </a:moveTo>
                <a:lnTo>
                  <a:pt x="50250" y="0"/>
                </a:lnTo>
                <a:lnTo>
                  <a:pt x="50250" y="21600"/>
                </a:lnTo>
                <a:lnTo>
                  <a:pt x="0" y="21600"/>
                </a:lnTo>
                <a:close/>
              </a:path>
              <a:path fill="lightenLess" w="50250" h="21600">
                <a:moveTo>
                  <a:pt x="0" y="0"/>
                </a:moveTo>
                <a:lnTo>
                  <a:pt x="50250" y="0"/>
                </a:lnTo>
                <a:lnTo>
                  <a:pt x="48850" y="1400"/>
                </a:lnTo>
                <a:lnTo>
                  <a:pt x="1400" y="1400"/>
                </a:lnTo>
                <a:close/>
              </a:path>
              <a:path fill="darken" w="50250" h="21600">
                <a:moveTo>
                  <a:pt x="50250" y="0"/>
                </a:moveTo>
                <a:lnTo>
                  <a:pt x="50250" y="21600"/>
                </a:lnTo>
                <a:lnTo>
                  <a:pt x="48850" y="20200"/>
                </a:lnTo>
                <a:lnTo>
                  <a:pt x="48850" y="1400"/>
                </a:lnTo>
                <a:close/>
              </a:path>
              <a:path fill="darkenLess" w="50250" h="21600">
                <a:moveTo>
                  <a:pt x="502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850" y="20200"/>
                </a:lnTo>
                <a:close/>
              </a:path>
              <a:path fill="lighten" w="502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250" h="21600">
                <a:moveTo>
                  <a:pt x="18119" y="3794"/>
                </a:moveTo>
                <a:lnTo>
                  <a:pt x="32132" y="10800"/>
                </a:lnTo>
                <a:lnTo>
                  <a:pt x="1811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  <p:sndAc>
      <p:stSnd>
        <p:snd r:embed="rId3" name="cashreg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zedmioty z metali szlachetnych, np. obrączki, pierścionki, bransoletki i inne, ważone są na specjalnych wagach jubilerskich z dokładnością do 0,001 grama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ona główn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oni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5867280" y="4508640"/>
            <a:ext cx="1886040" cy="144756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rId3" action="ppaction://hlinksldjump"/>
          </p:cNvPr>
          <p:cNvSpPr/>
          <p:nvPr/>
        </p:nvSpPr>
        <p:spPr>
          <a:xfrm>
            <a:off x="1619280" y="5445000"/>
            <a:ext cx="792000" cy="5763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76" h="21600">
                <a:moveTo>
                  <a:pt x="0" y="0"/>
                </a:moveTo>
                <a:lnTo>
                  <a:pt x="29676" y="0"/>
                </a:lnTo>
                <a:lnTo>
                  <a:pt x="29676" y="21600"/>
                </a:lnTo>
                <a:lnTo>
                  <a:pt x="0" y="21600"/>
                </a:lnTo>
                <a:close/>
              </a:path>
              <a:path fill="lightenLess" w="29676" h="21600">
                <a:moveTo>
                  <a:pt x="0" y="0"/>
                </a:moveTo>
                <a:lnTo>
                  <a:pt x="29676" y="0"/>
                </a:lnTo>
                <a:lnTo>
                  <a:pt x="28276" y="1400"/>
                </a:lnTo>
                <a:lnTo>
                  <a:pt x="1400" y="1400"/>
                </a:lnTo>
                <a:close/>
              </a:path>
              <a:path fill="darken" w="29676" h="21600">
                <a:moveTo>
                  <a:pt x="29676" y="0"/>
                </a:moveTo>
                <a:lnTo>
                  <a:pt x="29676" y="21600"/>
                </a:lnTo>
                <a:lnTo>
                  <a:pt x="28276" y="20200"/>
                </a:lnTo>
                <a:lnTo>
                  <a:pt x="28276" y="1400"/>
                </a:lnTo>
                <a:close/>
              </a:path>
              <a:path fill="darkenLess" w="29676" h="21600">
                <a:moveTo>
                  <a:pt x="29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6" y="20200"/>
                </a:lnTo>
                <a:close/>
              </a:path>
              <a:path fill="lighten" w="29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6" h="21600">
                <a:moveTo>
                  <a:pt x="14838" y="3837"/>
                </a:moveTo>
                <a:lnTo>
                  <a:pt x="17414" y="6448"/>
                </a:lnTo>
                <a:lnTo>
                  <a:pt x="17414" y="4707"/>
                </a:lnTo>
                <a:lnTo>
                  <a:pt x="19190" y="4707"/>
                </a:lnTo>
                <a:lnTo>
                  <a:pt x="19190" y="8224"/>
                </a:lnTo>
                <a:lnTo>
                  <a:pt x="21801" y="10800"/>
                </a:lnTo>
                <a:lnTo>
                  <a:pt x="20147" y="10800"/>
                </a:lnTo>
                <a:lnTo>
                  <a:pt x="20147" y="17989"/>
                </a:lnTo>
                <a:lnTo>
                  <a:pt x="9529" y="17989"/>
                </a:lnTo>
                <a:lnTo>
                  <a:pt x="9529" y="10800"/>
                </a:lnTo>
                <a:lnTo>
                  <a:pt x="7875" y="10800"/>
                </a:lnTo>
                <a:close/>
              </a:path>
              <a:path fill="darkenLess" w="29676" h="21600">
                <a:moveTo>
                  <a:pt x="17414" y="6448"/>
                </a:moveTo>
                <a:lnTo>
                  <a:pt x="17414" y="4707"/>
                </a:lnTo>
                <a:lnTo>
                  <a:pt x="19190" y="4707"/>
                </a:lnTo>
                <a:lnTo>
                  <a:pt x="19190" y="8224"/>
                </a:lnTo>
                <a:close/>
              </a:path>
              <a:path fill="darkenLess" w="29676" h="21600">
                <a:moveTo>
                  <a:pt x="13916" y="14299"/>
                </a:moveTo>
                <a:lnTo>
                  <a:pt x="15761" y="14299"/>
                </a:lnTo>
                <a:lnTo>
                  <a:pt x="15761" y="17989"/>
                </a:lnTo>
                <a:lnTo>
                  <a:pt x="20147" y="17989"/>
                </a:lnTo>
                <a:lnTo>
                  <a:pt x="20147" y="10800"/>
                </a:lnTo>
                <a:lnTo>
                  <a:pt x="9529" y="10800"/>
                </a:lnTo>
                <a:lnTo>
                  <a:pt x="9529" y="17989"/>
                </a:lnTo>
                <a:lnTo>
                  <a:pt x="13916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endshow"/>
          </p:cNvPr>
          <p:cNvSpPr/>
          <p:nvPr/>
        </p:nvSpPr>
        <p:spPr>
          <a:xfrm>
            <a:off x="4284720" y="5445000"/>
            <a:ext cx="792000" cy="5763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76" h="21600">
                <a:moveTo>
                  <a:pt x="0" y="0"/>
                </a:moveTo>
                <a:lnTo>
                  <a:pt x="29676" y="0"/>
                </a:lnTo>
                <a:lnTo>
                  <a:pt x="29676" y="21600"/>
                </a:lnTo>
                <a:lnTo>
                  <a:pt x="0" y="21600"/>
                </a:lnTo>
                <a:close/>
              </a:path>
              <a:path fill="lightenLess" w="29676" h="21600">
                <a:moveTo>
                  <a:pt x="0" y="0"/>
                </a:moveTo>
                <a:lnTo>
                  <a:pt x="29676" y="0"/>
                </a:lnTo>
                <a:lnTo>
                  <a:pt x="28276" y="1400"/>
                </a:lnTo>
                <a:lnTo>
                  <a:pt x="1400" y="1400"/>
                </a:lnTo>
                <a:close/>
              </a:path>
              <a:path fill="darken" w="29676" h="21600">
                <a:moveTo>
                  <a:pt x="29676" y="0"/>
                </a:moveTo>
                <a:lnTo>
                  <a:pt x="29676" y="21600"/>
                </a:lnTo>
                <a:lnTo>
                  <a:pt x="28276" y="20200"/>
                </a:lnTo>
                <a:lnTo>
                  <a:pt x="28276" y="1400"/>
                </a:lnTo>
                <a:close/>
              </a:path>
              <a:path fill="darkenLess" w="29676" h="21600">
                <a:moveTo>
                  <a:pt x="29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6" y="20200"/>
                </a:lnTo>
                <a:close/>
              </a:path>
              <a:path fill="lighten" w="29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6" h="21600">
                <a:moveTo>
                  <a:pt x="18337" y="10800"/>
                </a:moveTo>
                <a:lnTo>
                  <a:pt x="7832" y="17806"/>
                </a:lnTo>
                <a:lnTo>
                  <a:pt x="7832" y="3794"/>
                </a:lnTo>
                <a:close/>
              </a:path>
              <a:path fill="darken" w="29676" h="21600">
                <a:moveTo>
                  <a:pt x="20182" y="3794"/>
                </a:moveTo>
                <a:lnTo>
                  <a:pt x="20182" y="17806"/>
                </a:lnTo>
                <a:lnTo>
                  <a:pt x="21845" y="17806"/>
                </a:lnTo>
                <a:lnTo>
                  <a:pt x="21845" y="379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  <p:sndAc>
      <p:stSnd>
        <p:snd r:embed="rId4" name="cashreg.wav"/>
      </p:stSnd>
    </p:sndAc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Punktacja i oceny z testu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 – 3 pkt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iedostateczn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 pkt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puszczają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 – 6 pkt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stateczn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 pkt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b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 pkt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rdzo dob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 pkt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elują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ona głów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>
            <a:hlinkClick r:id="rId2" action="ppaction://hlinksldjump"/>
          </p:cNvPr>
          <p:cNvSpPr/>
          <p:nvPr/>
        </p:nvSpPr>
        <p:spPr>
          <a:xfrm>
            <a:off x="6443640" y="5877000"/>
            <a:ext cx="1079640" cy="503280"/>
          </a:xfrm>
          <a:custGeom>
            <a:avLst/>
            <a:gdLst>
              <a:gd name="textAreaLeft" fmla="*/ 32400 w 1079640"/>
              <a:gd name="textAreaRight" fmla="*/ 1047240 w 1079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19" h="21600">
                <a:moveTo>
                  <a:pt x="0" y="0"/>
                </a:moveTo>
                <a:lnTo>
                  <a:pt x="46319" y="0"/>
                </a:lnTo>
                <a:lnTo>
                  <a:pt x="46319" y="21600"/>
                </a:lnTo>
                <a:lnTo>
                  <a:pt x="0" y="21600"/>
                </a:lnTo>
                <a:close/>
              </a:path>
              <a:path fill="lightenLess" w="46319" h="21600">
                <a:moveTo>
                  <a:pt x="0" y="0"/>
                </a:moveTo>
                <a:lnTo>
                  <a:pt x="46319" y="0"/>
                </a:lnTo>
                <a:lnTo>
                  <a:pt x="44919" y="1400"/>
                </a:lnTo>
                <a:lnTo>
                  <a:pt x="1400" y="1400"/>
                </a:lnTo>
                <a:close/>
              </a:path>
              <a:path fill="darken" w="46319" h="21600">
                <a:moveTo>
                  <a:pt x="46319" y="0"/>
                </a:moveTo>
                <a:lnTo>
                  <a:pt x="46319" y="21600"/>
                </a:lnTo>
                <a:lnTo>
                  <a:pt x="44919" y="20200"/>
                </a:lnTo>
                <a:lnTo>
                  <a:pt x="44919" y="1400"/>
                </a:lnTo>
                <a:close/>
              </a:path>
              <a:path fill="darkenLess" w="46319" h="21600">
                <a:moveTo>
                  <a:pt x="463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19" y="20200"/>
                </a:lnTo>
                <a:close/>
              </a:path>
              <a:path fill="lighten" w="463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19" h="21600">
                <a:moveTo>
                  <a:pt x="23159" y="3837"/>
                </a:moveTo>
                <a:lnTo>
                  <a:pt x="25736" y="6448"/>
                </a:lnTo>
                <a:lnTo>
                  <a:pt x="25736" y="4707"/>
                </a:lnTo>
                <a:lnTo>
                  <a:pt x="27511" y="4707"/>
                </a:lnTo>
                <a:lnTo>
                  <a:pt x="27511" y="8224"/>
                </a:lnTo>
                <a:lnTo>
                  <a:pt x="30122" y="10800"/>
                </a:lnTo>
                <a:lnTo>
                  <a:pt x="28469" y="10800"/>
                </a:lnTo>
                <a:lnTo>
                  <a:pt x="28469" y="17989"/>
                </a:lnTo>
                <a:lnTo>
                  <a:pt x="17850" y="17989"/>
                </a:lnTo>
                <a:lnTo>
                  <a:pt x="17850" y="10800"/>
                </a:lnTo>
                <a:lnTo>
                  <a:pt x="16196" y="10800"/>
                </a:lnTo>
                <a:close/>
              </a:path>
              <a:path fill="darkenLess" w="46319" h="21600">
                <a:moveTo>
                  <a:pt x="25736" y="6448"/>
                </a:moveTo>
                <a:lnTo>
                  <a:pt x="25736" y="4707"/>
                </a:lnTo>
                <a:lnTo>
                  <a:pt x="27511" y="4707"/>
                </a:lnTo>
                <a:lnTo>
                  <a:pt x="27511" y="8224"/>
                </a:lnTo>
                <a:close/>
              </a:path>
              <a:path fill="darkenLess" w="46319" h="21600">
                <a:moveTo>
                  <a:pt x="22237" y="14299"/>
                </a:moveTo>
                <a:lnTo>
                  <a:pt x="24082" y="14299"/>
                </a:lnTo>
                <a:lnTo>
                  <a:pt x="24082" y="17989"/>
                </a:lnTo>
                <a:lnTo>
                  <a:pt x="28469" y="17989"/>
                </a:lnTo>
                <a:lnTo>
                  <a:pt x="28469" y="10800"/>
                </a:lnTo>
                <a:lnTo>
                  <a:pt x="17850" y="10800"/>
                </a:lnTo>
                <a:lnTo>
                  <a:pt x="17850" y="17989"/>
                </a:lnTo>
                <a:lnTo>
                  <a:pt x="2223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  <p:sndAc>
      <p:stSnd>
        <p:snd r:embed="rId3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4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Przypomnienie  podstawowych obliczeń procentowych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084720" y="0"/>
          <a:ext cx="3059280" cy="267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84720" y="0"/>
                    <a:ext cx="3059280" cy="26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newsflash/>
    <p:sndAc>
      <p:stSnd>
        <p:snd r:embed="rId4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Obliczanie procentu z liczb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Przykł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Oblicz 12% liczby 320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12% = 0,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0,12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·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320 = 38,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Odp: 12% liczby 320 jest równe 38,4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  <p:sndAc>
      <p:stSnd>
        <p:snd r:embed="rId2" name="cashreg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Obliczanie liczby na podstawie danego jej procentu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273040"/>
            <a:ext cx="822960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Przykł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Znajdź liczbę, której 18% jest równe 63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18% = 0,18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x – szukana liczb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0,18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·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6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63:0,1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x = 35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Odp: Szukana liczba jest równa 350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newsflash/>
    <p:sndAc>
      <p:stSnd>
        <p:snd r:embed="rId2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Jakim procentem jednej liczby jest druga liczb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273040"/>
            <a:ext cx="822960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Przykł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Jakim procentem liczby 80 jest liczba 16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(16:80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·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100% = 0,2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·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100% = 20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Odp: Liczba 16 stanowi 20% liczby 80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newsflash/>
    <p:sndAc>
      <p:stSnd>
        <p:snd r:embed="rId2" name="cashreg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Oprocentowanie oszczędności i kredytów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4358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d = (k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·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·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t):100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d-odsetki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k-kapitał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t-czas oprocentowania w latach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p-proc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Przykł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Ile odsetek dopisze bank po upływie 6 m-cy od wpłaconej kwoty 1600zł na 6% roczni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d = (1600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·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·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0,5):100 = 4800:100 = 4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Odp: Bank dopisze 48zł odsete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newsflash/>
    <p:sndAc>
      <p:stSnd>
        <p:snd r:embed="rId2" name="cashre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Promil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Promil pochodzi z języka łacińskiego i znaczy „od tysiąca”. Jeden promil oznacza jedną tysieczną i zapisujemy go 1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zykła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‰ = 0,001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‰ = 3,1% = 0,03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icz 5‰ liczby 2800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‰ =0,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05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·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2800 = 1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newsflash/>
    <p:sndAc>
      <p:stSnd>
        <p:snd r:embed="rId2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7T17:57:47Z</dcterms:created>
  <dc:creator>slawek</dc:creator>
  <dc:description/>
  <dc:language>en-US</dc:language>
  <cp:lastModifiedBy>slawek</cp:lastModifiedBy>
  <dcterms:modified xsi:type="dcterms:W3CDTF">2004-10-17T10:37:42Z</dcterms:modified>
  <cp:revision>73</cp:revision>
  <dc:subject/>
  <dc:title>Przypomnienie trzech podstawowych obliczeń procentowych</dc:title>
</cp:coreProperties>
</file>